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cD dose-dependence of encoded protein expression in F11/EcR cells transfected with pIND constructs. A, in the left panel, F11/EcR cells were transfected with pIND-EGFP and treated with increasing concentrations of EcD. Fluorescence intensity of transfected cells was measured as described under Materials and Methods. In the middle panel, F11/EcR cells were transfected with pIND-EGFP and treated with increasing doses of EcD in the presence or absence of 100 μM DEVD, 1 mM GEE, or 1 μg/ml PTX. In the right panel, F11/EcR cells were transfected with pIND-wtPS2 or pIND-N141I-PS2 and treated with increasing concentrations of EcD in the presence or absence of 100 μM DEVD. Expressed PS2 holoproteins were examined by immunoblot analysis 72 h after transfection. The ratios of the 54-kDa PS2 immunoreactivity for the actin immunoreactivity in the same samples were measured, as described previously (Hashimoto et al., 2000b), and they are indicated as a function of the concentration of EcD, in which the PS2 expression by 10 μM EcD is set as 1.0. All values indicate means ± S.D. of at least three independent experiments. B, immunoblotting of PS2 constructs induced in transfected F11/EcR cells and endogenous PS2 in mouse primary cultured neurons. F11/EcR cells were transfected with pIND-wtPS2 or pIND-N141I-PS2 and treated with or without 10 μM EcD. Expressed PS2 proteins were examined by immunoblot analysis (20 μg/lane) 72 h after transfection. The extreme right lane indicates PS2 immunoblotting of a cell lysate (20 μg/lane) from primary cultured neurons (PCN). The top and bottom arrowheads indicate the holoprotein and the CTF of PS2 proteins, respective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ath induced by EcD in F11/EcR cells transfected with pIND-N141I-PS2. Dose-dependent increase by EcD in mortality of cells transfected with pIND-N141I-PS2. F11/EcR cells were transfected with pIND-N141I-PS2 (green circles) or pIND-wtPS2 (black circles) and treated with increasing concentrations of EcD (filled circles) or equivalent volumes of EtOH (open circles). Cell mortality was determined by Trypan blue exclusion assay 72 h after the onset of EcD treatment. In the upper panel, cell mortalities in negative controls simultaneously performed with the experiments shown in the lower panel are indicated. F11/EcR cells were transfected with (pIND transfection) or without (no transfection) empty pIND plasmid and then treated with (+) or without (−) 40 μM EcD for 72 h, and cell mortality was measured. ★, significant versus basal cell death rates in the upper panel and cell death rates by pIND-N141I-PS2 transfection in the absence of EcD. ★★, significant versus basal cell death rates and cell death rates by pIND-wtPS2 transfection in the absence of EcD. All cell death rates by pIND-wtPS2 transfection in the presence of EcD, shown in the lower panel, are significantly lower than those by pIND-N141I-PS2 transfection in the presence of EcD. All values indicate means ± S.D. of at least three independent experi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Ac-DEVD-CHO or GEE on cell death by pIND-N141I-PS2. In the left panel, F11/EcR cells were transfected with pIND-N141I-PS2 and treated with increasing concentrations of EcD (filled circles) or equivalent volumes of EtOH (open circles) in the presence (blue circles) or absence (green circles) of 100 μM DEVD. Cell mortality was determined 72 h after the onset of EcD treatment. In the right panel, F11/EcR cells were transfected with pIND-N141I-PS2 and treated with increasing concentrations of EcD (filled symbols) or equivalent volumes of EtOH (open symbols) in the presence (green squares) or absence (black circles) of 1 mM GEE. Cell mortality was similarly determined. The dose-response curve of death by wtPS2, shown in Fig. 2, is overlaid to allow a direct comparison (cyan filled triangles). In the top panels, cell mortalities in the presence of 100 μM DEVD (left) or 1 mM GEE (right) in negative controls simultaneously performed with the experiments shown in the corresponding bottom panels are indicated. ★ and ★★, significant and not significant, respectively, versus cell death rates by pIND-N141I-PS2 transfection in the presence of corresponding concentrations of EcD in the absence of DEVD (left panel) or GEE (right panel). All values indicate means ± S.D. of at least three independent experime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PTX on cell death by pIND-N141I-PS2. F11/EcR cells were transfected with pIND-N141I-PS2 (left panel) or pIND-wtPS2 (right panel), and treated with increasing concentrations of EcD (filled symbols) or equivalent volumes of EtOH (open symbols) in the presence (squares) or absence (black symbols) of 1 μg/ml PTX. Cell mortality was determined at 72 h after the onset of EcD treatment. The dose-response curve of death by wtPS2 is overlaid in the left panel to allow a direct comparison (blue filled triangles). ★ in both panels, significant versus cell death rates by pIND-N141I-PS2 transfection or pIND-wtPS2 transfection in the presence of cognate concentrations of EcD in the absence of PTX. All values indicate means ± S.D. of at least three independent experime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XOIs on cell death by pIND-N141I-PS2. In the left panel, F11/EcR cells were transfected with pIND-N141I-PS2 and treated with increasing concentrations of EcD (filled symbols) or equivalent volumes of EtOH (open symbols) in the presence or absence (black symbols) of 100 μM DEVD (cyan circles), 100 μM OXYP (green squares), or both 100 μM DEVD and 100 μM OXYP (blue triangles). Cell mortality was similarly determined at 72 h after the onset of EcD treatment. In the right panel, F11/EcR cells were transfected with pIND-N141I-PS2 and treated with increasing concentrations of EcD (black filled squares) or equivalent volumes of EtOH (black open squares) in the presence of 100 μM DEVD. Cell mortality was similarly determined at 72 h after the onset of EcD treatment. The green filled squares indicate the death rates of pIND-N141I-PS2-transfected cells treated with EcD, 100 μM DEVD, and 100 nM (+)BOF4272. The blue filled triangles indicate the death rates of pIND-N141I-PS2-transfected cells treated with EcD, 100 μM Ac-DEVD-CHO, and 100 nM (−)BOF4272. ★★ and ★ in the left panel, significant and not significant versus cell death rates by pIND-N141I-PS2 transfection in the presence of corresponding concentrations of EcD in the presence of DEVD or in all absence, respectively. ★★ and ★ in the right panel, significant and not significant, respectively, versus cell death rates by pIND-N141I-PS2 transfection in the presence of corresponding concentrations of ≥ 20 μM EcD in the presence of DEVD. All values indicate means ± S.D. of at least three independent experim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NADPH oxidase inhibitors on cell death by pIND-N141I-PS2. In the lower panels, F11/EcR cells were transfected with pIND-N141I-PS2 (left) or pIND-V642I-APP (right) and treated with increasing concentrations of EcD (filled symbols) or equivalent volumes of EtOH (open symbols) in the presence or absence of 300 μM APO, 100 μM DPI, or 100 μM DEVD. Cell mortality was similarly determined at 72 h after the onset of EcD treatment. In the upper panels, cell mortalities in negative controls are indicated. F11/EcR cells were transfected with (pIND transfection) or without (no transfection) empty pIND plasmid and then treated with (+) or without (−) 40 μM EcD in the presence or absence of 300 μM APO, 100 μM DPI, or 100 μM DEVD for 72 h, and cell mortality was similarly measured. In the left lower panel, the dose-response curve of wtPS2-induced death, measured in Fig. 2, is superimposed for ease of comparison (red circles). In the right lower panel, the dose-response curve of EcD-dependent death of cells transfected with pIND-wtAPP is also indicated (red circles). ★ in the left panel, not significant versus cell death rates by pIND-N141I-PS2 transfection in the presence of 10 μM EcD and DEVD. ★★, significant versus cell death rates by pIND-N141I-PS2 transfection in the presence of 10 μM EcD alone. All cell death rates by pIND-V642I-APP transfection (left panel) or by pIND-V642I-APP transfection (right panel) in the presence of EcD in the presence of APO or DPI are significantly lower than those by pIND-V642I-APP transfection in the presence of corresponding concentrations of EcD alone and differ not significantly from each other. All values indicate means ± S.D. of at least three independent experime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8000"/>
            <a:ext cx="5407200" cy="479736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PTXr-Gα subunits on cytotoxicity by N141I-PS2 and V642I-APP. A, effect of each PTXr-Gα on cytotoxicity by low and high expression of N141I-PS2 and by low expression of V642I-APP. F11/EcR cells were transfected with either pIND, pIND-N141I-PS2, or pIND-V642I-APP with each PTXr-Gα cDNA (1: PTXr-Gαo; 2: PTXr-Gαi1; 3: PTXr-Gαi2; 4: PTXr-Gαi3) or an empty plasmid (−) and were cultured with or without 1 μg/ml PTX in the presence of 10 or 40 μM EcD. The basally occurring cell death was at ∼10% in the absence of EcD, as was the case in all other experiments shown in this study. ★ and •, significant and not significant increases, respectively, versus cell death rates by pIND-FAD gene transfection in the presence of indicated concentrations of EcD in the presence of PTX without transfection of PTXr-Gα cDNA. All values indicate means ± S.D. of at least three independent experiments. B, effect of APO and OXYP on PTXr-Gαo-restored cytotoxicity of highly induced N141I-PS2 or V642I-APP in the presence of PTX. F11/EcR cells were transfected with either pIND, pIND-N141I-PS2, or pIND-V642I-APP with PTXr-Gαo or an empty plasmid, and were treated with 40 μM EcD with or without 1 μg/ml PTX in the presence or absence of APO or OXYP. As controls, cytotoxicities by 40 μM EcD-induced wtPS2 or wtAPP were indicated as pIND-wtPS2 or pIND-wtAPP at the extreme right columns in the middle and right groups. The basally occurring cell death was at ∼10% in the absence of EcD under similar conditions. ★, significant versus pIND-FAD gene transfection in the presence of 40 μM EcD in the presence of PTX without transfection of PTXr-Gαo. ★★, not significant versus pIND-N141I-PS2 transfection in the presence of 40 μM EcD in the presence of PTX alone with transfection of PTXr-Gαo. ••, significant versus pIND-N141I-PS2 transfection in the presence of 40 μM EcD in the presence of PTX and APO with transfection of PTXr-Gαo. ★★★, significant versus pIND-V642I-APP transfection in the presence of 40 μM EcD in the presence of PTX alone with transfection of PTXr-Gαo. All values indicate means ± S.D. of at least three independent experi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uggested mechanisms for neuronal cell death by N141I-PS2. The N141I mutation of PS2 causes GEE/DEVD-sensitive death at low expression and GEE-sensitive/DEVD-resistant death at higher expression. The former mechanism is mediated by Go and is shared by V642I-APP (low to high expression) and NL-APP (low expression). Because the latter mechanism (GEE-sensitive/DEVD-resistant death at higher expression) is also mediated by Go, high expression of N141I-PS2 specifically allows Go to activate XO. In addition, high expression of V642I-APP and N141I-PS2 has an association with weak GEE-resistant/DEVD-resistant death by wtAPP and wtPS2, respectively (not shown). See the text for detai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Neurotoxic Mechanisms by Alzheimer's Disease-Linked N141I Mutant Presenilin 2</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Yuichi Hashimoto, Takako Niikura, Yuko Ito, Yoshiko Kita, Kenzo Terashita, and Ikuo Nishimoto</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Pharmacol Exp Ther</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00(3):736-745</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rch 1, 2002</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6678720" y="6397560"/>
            <a:ext cx="2922480" cy="917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cD dose-dependence of encoded protein expression in F11/EcR cells transfected with pIND construct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6678720" y="6397560"/>
            <a:ext cx="2922480" cy="917640"/>
          </a:xfrm>
          <a:prstGeom prst="rect">
            <a:avLst/>
          </a:prstGeom>
          <a:ln w="0">
            <a:noFill/>
          </a:ln>
        </p:spPr>
      </p:pic>
      <p:pic>
        <p:nvPicPr>
          <p:cNvPr id="48" name="" descr=""/>
          <p:cNvPicPr/>
          <p:nvPr/>
        </p:nvPicPr>
        <p:blipFill>
          <a:blip r:embed="rId2"/>
          <a:stretch/>
        </p:blipFill>
        <p:spPr>
          <a:xfrm>
            <a:off x="3052800" y="1079640"/>
            <a:ext cx="3978360" cy="5394240"/>
          </a:xfrm>
          <a:prstGeom prst="rect">
            <a:avLst/>
          </a:prstGeom>
          <a:ln w="0">
            <a:noFill/>
          </a:ln>
        </p:spPr>
      </p:pic>
      <p:sp>
        <p:nvSpPr>
          <p:cNvPr id="49" name=""/>
          <p:cNvSpPr/>
          <p:nvPr/>
        </p:nvSpPr>
        <p:spPr>
          <a:xfrm>
            <a:off x="3052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uichi Hashimoto et al. J Pharmacol Exp Ther 2002;300:736-745</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ath induced by EcD in F11/EcR cells transfected with pIND-N141I-PS2.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6678720" y="6397560"/>
            <a:ext cx="2922480" cy="917640"/>
          </a:xfrm>
          <a:prstGeom prst="rect">
            <a:avLst/>
          </a:prstGeom>
          <a:ln w="0">
            <a:noFill/>
          </a:ln>
        </p:spPr>
      </p:pic>
      <p:pic>
        <p:nvPicPr>
          <p:cNvPr id="53" name="" descr=""/>
          <p:cNvPicPr/>
          <p:nvPr/>
        </p:nvPicPr>
        <p:blipFill>
          <a:blip r:embed="rId2"/>
          <a:stretch/>
        </p:blipFill>
        <p:spPr>
          <a:xfrm>
            <a:off x="3241800" y="1079640"/>
            <a:ext cx="3603600" cy="5394240"/>
          </a:xfrm>
          <a:prstGeom prst="rect">
            <a:avLst/>
          </a:prstGeom>
          <a:ln w="0">
            <a:noFill/>
          </a:ln>
        </p:spPr>
      </p:pic>
      <p:sp>
        <p:nvSpPr>
          <p:cNvPr id="54" name=""/>
          <p:cNvSpPr/>
          <p:nvPr/>
        </p:nvSpPr>
        <p:spPr>
          <a:xfrm>
            <a:off x="3241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uichi Hashimoto et al. J Pharmacol Exp Ther 2002;300:736-745</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Ac-DEVD-CHO or GEE on cell death by pIND-N141I-PS2.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6678720" y="6397560"/>
            <a:ext cx="2922480" cy="917640"/>
          </a:xfrm>
          <a:prstGeom prst="rect">
            <a:avLst/>
          </a:prstGeom>
          <a:ln w="0">
            <a:noFill/>
          </a:ln>
        </p:spPr>
      </p:pic>
      <p:pic>
        <p:nvPicPr>
          <p:cNvPr id="58" name="" descr=""/>
          <p:cNvPicPr/>
          <p:nvPr/>
        </p:nvPicPr>
        <p:blipFill>
          <a:blip r:embed="rId2"/>
          <a:stretch/>
        </p:blipFill>
        <p:spPr>
          <a:xfrm>
            <a:off x="1389240" y="1079640"/>
            <a:ext cx="7306920" cy="5394240"/>
          </a:xfrm>
          <a:prstGeom prst="rect">
            <a:avLst/>
          </a:prstGeom>
          <a:ln w="0">
            <a:noFill/>
          </a:ln>
        </p:spPr>
      </p:pic>
      <p:sp>
        <p:nvSpPr>
          <p:cNvPr id="59" name=""/>
          <p:cNvSpPr/>
          <p:nvPr/>
        </p:nvSpPr>
        <p:spPr>
          <a:xfrm>
            <a:off x="138924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uichi Hashimoto et al. J Pharmacol Exp Ther 2002;300:736-745</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PTX on cell death by pIND-N141I-PS2.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6678720" y="6397560"/>
            <a:ext cx="2922480" cy="917640"/>
          </a:xfrm>
          <a:prstGeom prst="rect">
            <a:avLst/>
          </a:prstGeom>
          <a:ln w="0">
            <a:noFill/>
          </a:ln>
        </p:spPr>
      </p:pic>
      <p:pic>
        <p:nvPicPr>
          <p:cNvPr id="63" name="" descr=""/>
          <p:cNvPicPr/>
          <p:nvPr/>
        </p:nvPicPr>
        <p:blipFill>
          <a:blip r:embed="rId2"/>
          <a:stretch/>
        </p:blipFill>
        <p:spPr>
          <a:xfrm>
            <a:off x="1019160" y="1079640"/>
            <a:ext cx="8048520" cy="5394240"/>
          </a:xfrm>
          <a:prstGeom prst="rect">
            <a:avLst/>
          </a:prstGeom>
          <a:ln w="0">
            <a:noFill/>
          </a:ln>
        </p:spPr>
      </p:pic>
      <p:sp>
        <p:nvSpPr>
          <p:cNvPr id="64" name=""/>
          <p:cNvSpPr/>
          <p:nvPr/>
        </p:nvSpPr>
        <p:spPr>
          <a:xfrm>
            <a:off x="10191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uichi Hashimoto et al. J Pharmacol Exp Ther 2002;300:736-745</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XOIs on cell death by pIND-N141I-PS2.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6678720" y="6397560"/>
            <a:ext cx="2922480" cy="917640"/>
          </a:xfrm>
          <a:prstGeom prst="rect">
            <a:avLst/>
          </a:prstGeom>
          <a:ln w="0">
            <a:noFill/>
          </a:ln>
        </p:spPr>
      </p:pic>
      <p:pic>
        <p:nvPicPr>
          <p:cNvPr id="68" name="" descr=""/>
          <p:cNvPicPr/>
          <p:nvPr/>
        </p:nvPicPr>
        <p:blipFill>
          <a:blip r:embed="rId2"/>
          <a:stretch/>
        </p:blipFill>
        <p:spPr>
          <a:xfrm>
            <a:off x="739800" y="1154160"/>
            <a:ext cx="8604360" cy="5243400"/>
          </a:xfrm>
          <a:prstGeom prst="rect">
            <a:avLst/>
          </a:prstGeom>
          <a:ln w="0">
            <a:noFill/>
          </a:ln>
        </p:spPr>
      </p:pic>
      <p:sp>
        <p:nvSpPr>
          <p:cNvPr id="6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uichi Hashimoto et al. J Pharmacol Exp Ther 2002;300:736-745</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NADPH oxidase inhibitors on cell death by pIND-N141I-PS2.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6678720" y="6397560"/>
            <a:ext cx="2922480" cy="917640"/>
          </a:xfrm>
          <a:prstGeom prst="rect">
            <a:avLst/>
          </a:prstGeom>
          <a:ln w="0">
            <a:noFill/>
          </a:ln>
        </p:spPr>
      </p:pic>
      <p:pic>
        <p:nvPicPr>
          <p:cNvPr id="73" name="" descr=""/>
          <p:cNvPicPr/>
          <p:nvPr/>
        </p:nvPicPr>
        <p:blipFill>
          <a:blip r:embed="rId2"/>
          <a:stretch/>
        </p:blipFill>
        <p:spPr>
          <a:xfrm>
            <a:off x="2735280" y="1079640"/>
            <a:ext cx="4614840" cy="5394240"/>
          </a:xfrm>
          <a:prstGeom prst="rect">
            <a:avLst/>
          </a:prstGeom>
          <a:ln w="0">
            <a:noFill/>
          </a:ln>
        </p:spPr>
      </p:pic>
      <p:sp>
        <p:nvSpPr>
          <p:cNvPr id="74" name=""/>
          <p:cNvSpPr/>
          <p:nvPr/>
        </p:nvSpPr>
        <p:spPr>
          <a:xfrm>
            <a:off x="27352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uichi Hashimoto et al. J Pharmacol Exp Ther 2002;300:736-745</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PTXr-Gα subunits on cytotoxicity by N141I-PS2 and V642I-APP.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6678720" y="6397560"/>
            <a:ext cx="2922480" cy="917640"/>
          </a:xfrm>
          <a:prstGeom prst="rect">
            <a:avLst/>
          </a:prstGeom>
          <a:ln w="0">
            <a:noFill/>
          </a:ln>
        </p:spPr>
      </p:pic>
      <p:pic>
        <p:nvPicPr>
          <p:cNvPr id="78" name="" descr=""/>
          <p:cNvPicPr/>
          <p:nvPr/>
        </p:nvPicPr>
        <p:blipFill>
          <a:blip r:embed="rId2"/>
          <a:stretch/>
        </p:blipFill>
        <p:spPr>
          <a:xfrm>
            <a:off x="3141720" y="1079640"/>
            <a:ext cx="3800520" cy="5394240"/>
          </a:xfrm>
          <a:prstGeom prst="rect">
            <a:avLst/>
          </a:prstGeom>
          <a:ln w="0">
            <a:noFill/>
          </a:ln>
        </p:spPr>
      </p:pic>
      <p:sp>
        <p:nvSpPr>
          <p:cNvPr id="79" name=""/>
          <p:cNvSpPr/>
          <p:nvPr/>
        </p:nvSpPr>
        <p:spPr>
          <a:xfrm>
            <a:off x="31417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uichi Hashimoto et al. J Pharmacol Exp Ther 2002;300:736-745</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uggested mechanisms for neuronal cell death by N141I-PS2.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6678720" y="6397560"/>
            <a:ext cx="2922480" cy="917640"/>
          </a:xfrm>
          <a:prstGeom prst="rect">
            <a:avLst/>
          </a:prstGeom>
          <a:ln w="0">
            <a:noFill/>
          </a:ln>
        </p:spPr>
      </p:pic>
      <p:pic>
        <p:nvPicPr>
          <p:cNvPr id="83" name="" descr=""/>
          <p:cNvPicPr/>
          <p:nvPr/>
        </p:nvPicPr>
        <p:blipFill>
          <a:blip r:embed="rId2"/>
          <a:stretch/>
        </p:blipFill>
        <p:spPr>
          <a:xfrm>
            <a:off x="739800" y="1563840"/>
            <a:ext cx="8604360" cy="4425840"/>
          </a:xfrm>
          <a:prstGeom prst="rect">
            <a:avLst/>
          </a:prstGeom>
          <a:ln w="0">
            <a:noFill/>
          </a:ln>
        </p:spPr>
      </p:pic>
      <p:sp>
        <p:nvSpPr>
          <p:cNvPr id="8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uichi Hashimoto et al. J Pharmacol Exp Ther 2002;300:736-745</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The American Society for Pharmacology and Experimental Therapeutic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