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membrane potential of a confluent monolayer of NRK cells was measured and addition of 100 μM MFA is indicated by the bar. The membrane potential recording shows short interruptions to the voltage-clamp mode. B, capacitive current transients, evoked by application of a short voltage-clamp step (10 mV), at the indicated time points (a–h). C, corresponding calculated gap junctional conductance (G01x) as a function of time. Addition of 100 μM MFA is indicated by the ba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se-response curve of the inhibition of electrical coupling by fenamates. The calculated gap junctional conductance (G01x) as a function of the concentration FFA, niflumic acid (NFA), and MFA is shown. G01x was determined 15 to 20 min after addition of fenamates when the capacitive current transient had reached a steady state (mean ± S.E.M., n = 4; control,n = 14).</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ye coupling in NRK fibroblasts. Lucifer yellow was injected into one single cell of the monolayer and intercellular diffusion of the dye was monitored 10 to 15 min after injection. Phase contrast and lucifer yellow fluorescence in control cells (top) and after pretreatment with 100 μM MFA for 5 min (bottom). Arrows indicate the injected ce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se-response curve of the inhibition of intercellular communication by fenamates. Number of dye-coupled cells as a function of the concentration of MFA and FFA. Number of dye-coupled cells was determined 10 to 15 min after dye injection into a single cell (mean ± S.E.M., n = 4; control,n = 1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250 μM MFA on the capacitive current transient, evoked by a short voltage-clamp step (10 mV), in confluent monolayers of SKHep1 cells (A) and SKHep1-Cx43 cells (B). Data shown are representative traces of at least four experi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ical equivalent circuit of a voltage-clamp step response measurement on a patched whole-cell in a confluent monolayer of NRK cells. The voltage clamp is represented by the voltage source E, which provides voltage steps dE through the patch pipette (at the left). A, circuit, drawn in a (compressed) concentric ring representation of the monolayer around the patched cell (#0). This reduces the two-dimensional monolayer to a one-dimensional cable-like circuit. Pipette capacitance charging components are omitted in the circuit. For further explanation, see . B, simplified monolayer circuit, in which G1x represents the inverse of the total exit resistance (R1x) for current leaving the interior of cell ring #1 through whatever path (junctional or membrane resistance). The equivalent monolayer resistance R1x from ring #1 is paired with an equivalent monolayer capacitance C1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Fenamates: A Novel Class of Reversible Gap Junction Blocker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Erik G. A. Harks, Albert D. G. de Roos, Peter H. J. Peters, Laura H. de Haan, Abraham Brouwer, Dirk L. Ypey, Everardus J. J. van Zoelen, and Alexander P. R. Theuvenet</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Pharmacol Exp Ther</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98(3):1033-104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678720" y="6397560"/>
            <a:ext cx="2922480" cy="91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membrane potential of a confluent monolayer of NRK cells was measured and addition of 100 μM MFA is indicated by the bar.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678720" y="6397560"/>
            <a:ext cx="2922480" cy="917640"/>
          </a:xfrm>
          <a:prstGeom prst="rect">
            <a:avLst/>
          </a:prstGeom>
          <a:ln w="0">
            <a:noFill/>
          </a:ln>
        </p:spPr>
      </p:pic>
      <p:pic>
        <p:nvPicPr>
          <p:cNvPr id="48" name="" descr=""/>
          <p:cNvPicPr/>
          <p:nvPr/>
        </p:nvPicPr>
        <p:blipFill>
          <a:blip r:embed="rId2"/>
          <a:stretch/>
        </p:blipFill>
        <p:spPr>
          <a:xfrm>
            <a:off x="3243240" y="1079640"/>
            <a:ext cx="3598920" cy="5394240"/>
          </a:xfrm>
          <a:prstGeom prst="rect">
            <a:avLst/>
          </a:prstGeom>
          <a:ln w="0">
            <a:noFill/>
          </a:ln>
        </p:spPr>
      </p:pic>
      <p:sp>
        <p:nvSpPr>
          <p:cNvPr id="49" name=""/>
          <p:cNvSpPr/>
          <p:nvPr/>
        </p:nvSpPr>
        <p:spPr>
          <a:xfrm>
            <a:off x="3243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rik G. A. Harks et al. J Pharmacol Exp Ther 2001;298:1033-104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se-response curve of the inhibition of electrical coupling by fenamat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678720" y="6397560"/>
            <a:ext cx="2922480" cy="917640"/>
          </a:xfrm>
          <a:prstGeom prst="rect">
            <a:avLst/>
          </a:prstGeom>
          <a:ln w="0">
            <a:noFill/>
          </a:ln>
        </p:spPr>
      </p:pic>
      <p:pic>
        <p:nvPicPr>
          <p:cNvPr id="53" name="" descr=""/>
          <p:cNvPicPr/>
          <p:nvPr/>
        </p:nvPicPr>
        <p:blipFill>
          <a:blip r:embed="rId2"/>
          <a:stretch/>
        </p:blipFill>
        <p:spPr>
          <a:xfrm>
            <a:off x="1639800" y="1079640"/>
            <a:ext cx="6805800" cy="5394240"/>
          </a:xfrm>
          <a:prstGeom prst="rect">
            <a:avLst/>
          </a:prstGeom>
          <a:ln w="0">
            <a:noFill/>
          </a:ln>
        </p:spPr>
      </p:pic>
      <p:sp>
        <p:nvSpPr>
          <p:cNvPr id="54" name=""/>
          <p:cNvSpPr/>
          <p:nvPr/>
        </p:nvSpPr>
        <p:spPr>
          <a:xfrm>
            <a:off x="16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rik G. A. Harks et al. J Pharmacol Exp Ther 2001;298:1033-104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ye coupling in NRK fibroblast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678720" y="6397560"/>
            <a:ext cx="2922480" cy="917640"/>
          </a:xfrm>
          <a:prstGeom prst="rect">
            <a:avLst/>
          </a:prstGeom>
          <a:ln w="0">
            <a:noFill/>
          </a:ln>
        </p:spPr>
      </p:pic>
      <p:pic>
        <p:nvPicPr>
          <p:cNvPr id="58" name="" descr=""/>
          <p:cNvPicPr/>
          <p:nvPr/>
        </p:nvPicPr>
        <p:blipFill>
          <a:blip r:embed="rId2"/>
          <a:stretch/>
        </p:blipFill>
        <p:spPr>
          <a:xfrm>
            <a:off x="1111320" y="1079640"/>
            <a:ext cx="7864560" cy="5394240"/>
          </a:xfrm>
          <a:prstGeom prst="rect">
            <a:avLst/>
          </a:prstGeom>
          <a:ln w="0">
            <a:noFill/>
          </a:ln>
        </p:spPr>
      </p:pic>
      <p:sp>
        <p:nvSpPr>
          <p:cNvPr id="59" name=""/>
          <p:cNvSpPr/>
          <p:nvPr/>
        </p:nvSpPr>
        <p:spPr>
          <a:xfrm>
            <a:off x="1111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rik G. A. Harks et al. J Pharmacol Exp Ther 2001;298:1033-104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se-response curve of the inhibition of intercellular communication by fenamat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678720" y="6397560"/>
            <a:ext cx="2922480" cy="917640"/>
          </a:xfrm>
          <a:prstGeom prst="rect">
            <a:avLst/>
          </a:prstGeom>
          <a:ln w="0">
            <a:noFill/>
          </a:ln>
        </p:spPr>
      </p:pic>
      <p:pic>
        <p:nvPicPr>
          <p:cNvPr id="63" name="" descr=""/>
          <p:cNvPicPr/>
          <p:nvPr/>
        </p:nvPicPr>
        <p:blipFill>
          <a:blip r:embed="rId2"/>
          <a:stretch/>
        </p:blipFill>
        <p:spPr>
          <a:xfrm>
            <a:off x="2286000" y="1079640"/>
            <a:ext cx="5514840" cy="5394240"/>
          </a:xfrm>
          <a:prstGeom prst="rect">
            <a:avLst/>
          </a:prstGeom>
          <a:ln w="0">
            <a:noFill/>
          </a:ln>
        </p:spPr>
      </p:pic>
      <p:sp>
        <p:nvSpPr>
          <p:cNvPr id="64" name=""/>
          <p:cNvSpPr/>
          <p:nvPr/>
        </p:nvSpPr>
        <p:spPr>
          <a:xfrm>
            <a:off x="22860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rik G. A. Harks et al. J Pharmacol Exp Ther 2001;298:1033-104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250 μM MFA on the capacitive current transient, evoked by a short voltage-clamp step (10 mV), in confluent monolayers of SKHep1 cells (A) and SKHep1-Cx43 cells (B).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6678720" y="6397560"/>
            <a:ext cx="2922480" cy="917640"/>
          </a:xfrm>
          <a:prstGeom prst="rect">
            <a:avLst/>
          </a:prstGeom>
          <a:ln w="0">
            <a:noFill/>
          </a:ln>
        </p:spPr>
      </p:pic>
      <p:pic>
        <p:nvPicPr>
          <p:cNvPr id="68" name="" descr=""/>
          <p:cNvPicPr/>
          <p:nvPr/>
        </p:nvPicPr>
        <p:blipFill>
          <a:blip r:embed="rId2"/>
          <a:stretch/>
        </p:blipFill>
        <p:spPr>
          <a:xfrm>
            <a:off x="739800" y="1380960"/>
            <a:ext cx="8604360" cy="478980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rik G. A. Harks et al. J Pharmacol Exp Ther 2001;298:1033-104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ical equivalent circuit of a voltage-clamp step response measurement on a patched whole-cell in a confluent monolayer of NRK cell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6678720" y="6397560"/>
            <a:ext cx="2922480" cy="917640"/>
          </a:xfrm>
          <a:prstGeom prst="rect">
            <a:avLst/>
          </a:prstGeom>
          <a:ln w="0">
            <a:noFill/>
          </a:ln>
        </p:spPr>
      </p:pic>
      <p:pic>
        <p:nvPicPr>
          <p:cNvPr id="73" name="" descr=""/>
          <p:cNvPicPr/>
          <p:nvPr/>
        </p:nvPicPr>
        <p:blipFill>
          <a:blip r:embed="rId2"/>
          <a:stretch/>
        </p:blipFill>
        <p:spPr>
          <a:xfrm>
            <a:off x="2367000" y="1079640"/>
            <a:ext cx="5352840" cy="5394240"/>
          </a:xfrm>
          <a:prstGeom prst="rect">
            <a:avLst/>
          </a:prstGeom>
          <a:ln w="0">
            <a:noFill/>
          </a:ln>
        </p:spPr>
      </p:pic>
      <p:sp>
        <p:nvSpPr>
          <p:cNvPr id="74" name=""/>
          <p:cNvSpPr/>
          <p:nvPr/>
        </p:nvSpPr>
        <p:spPr>
          <a:xfrm>
            <a:off x="23670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rik G. A. Harks et al. J Pharmacol Exp Ther 2001;298:1033-104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