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field stimulation (S1 and S2) on the fractional release of [3H]ACh from the rat SCG. Collection periods (5 min) and stimulation (S1and S2; 2 Hz, 300 shocks) are indicated. The release at rest in a 5-min collection period was 1.63 ± 0.06% of total activity (fractional release). The release in response to stimulation was 9.87 ± 0.93% for S1 and 7.42 ± 0.82% for S2. The S2/S1 ratio was 0.73 ± 0.08 (n = 8).</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DMPP and a nicotinic antagonist (hexamethonium) on the stimulation-evoked release of [3H]ACh. Ganglia were stimulated two times (S1 and S2; 2 Hz, 300 shocks), with a 30-min interval. Hexamethonium at 100 μM and DMPP at different concentrations were added to the perfusion Krebs solution 20 min and 10 min before S2 and were kept in the solution throughout the experiments. Note that DMPP potentiated the release in a concentration-dependent manner and hexamethonium shifted the dose-response curve to the right. Values are the mean ± S.D. of six tes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Positive Feedback Modulation of Acetylcholine Release from Isolated Rat Superior Cervical Gangl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hang-Dong Liang, and E. Sylvester Vizi</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Pharmacol Exp Ther</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80(2):650-655</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1, 199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6678720" y="6397560"/>
            <a:ext cx="2922480" cy="917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field stimulation (S1 and S2) on the fractional release of [3H]ACh from the rat SCG. Collection periods (5 min) and stimulation (S1and S2; 2 Hz, 300 shocks) are indicated.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6678720" y="6397560"/>
            <a:ext cx="2922480" cy="917640"/>
          </a:xfrm>
          <a:prstGeom prst="rect">
            <a:avLst/>
          </a:prstGeom>
          <a:ln w="0">
            <a:noFill/>
          </a:ln>
        </p:spPr>
      </p:pic>
      <p:pic>
        <p:nvPicPr>
          <p:cNvPr id="48" name="" descr=""/>
          <p:cNvPicPr/>
          <p:nvPr/>
        </p:nvPicPr>
        <p:blipFill>
          <a:blip r:embed="rId2"/>
          <a:stretch/>
        </p:blipFill>
        <p:spPr>
          <a:xfrm>
            <a:off x="1209600" y="1079640"/>
            <a:ext cx="7664400" cy="5394240"/>
          </a:xfrm>
          <a:prstGeom prst="rect">
            <a:avLst/>
          </a:prstGeom>
          <a:ln w="0">
            <a:noFill/>
          </a:ln>
        </p:spPr>
      </p:pic>
      <p:sp>
        <p:nvSpPr>
          <p:cNvPr id="49" name=""/>
          <p:cNvSpPr/>
          <p:nvPr/>
        </p:nvSpPr>
        <p:spPr>
          <a:xfrm>
            <a:off x="12096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hang-Dong Liang, and E. Sylvester Vizi J Pharmacol Exp Ther 1997;280:650-655</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DMPP and a nicotinic antagonist (hexamethonium) on the stimulation-evoked release of [3H]ACh.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6678720" y="6397560"/>
            <a:ext cx="2922480" cy="917640"/>
          </a:xfrm>
          <a:prstGeom prst="rect">
            <a:avLst/>
          </a:prstGeom>
          <a:ln w="0">
            <a:noFill/>
          </a:ln>
        </p:spPr>
      </p:pic>
      <p:pic>
        <p:nvPicPr>
          <p:cNvPr id="53" name="" descr=""/>
          <p:cNvPicPr/>
          <p:nvPr/>
        </p:nvPicPr>
        <p:blipFill>
          <a:blip r:embed="rId2"/>
          <a:stretch/>
        </p:blipFill>
        <p:spPr>
          <a:xfrm>
            <a:off x="1019160" y="1079640"/>
            <a:ext cx="8045640" cy="5394240"/>
          </a:xfrm>
          <a:prstGeom prst="rect">
            <a:avLst/>
          </a:prstGeom>
          <a:ln w="0">
            <a:noFill/>
          </a:ln>
        </p:spPr>
      </p:pic>
      <p:sp>
        <p:nvSpPr>
          <p:cNvPr id="54" name=""/>
          <p:cNvSpPr/>
          <p:nvPr/>
        </p:nvSpPr>
        <p:spPr>
          <a:xfrm>
            <a:off x="10191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hang-Dong Liang, and E. Sylvester Vizi J Pharmacol Exp Ther 1997;280:650-655</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